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7.wmf" ContentType="image/x-wmf"/>
  <Override PartName="/ppt/media/wind.wav" ContentType="audio/x-wav"/>
  <Override PartName="/ppt/media/image9.wmf" ContentType="image/x-wmf"/>
  <Override PartName="/ppt/media/image16.wmf" ContentType="image/x-wmf"/>
  <Override PartName="/ppt/media/voltage.wav" ContentType="audio/x-wav"/>
  <Override PartName="/ppt/media/image7.jpeg" ContentType="image/jpeg"/>
  <Override PartName="/ppt/media/laser.wav" ContentType="audio/x-wav"/>
  <Override PartName="/ppt/media/cashreg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breeze.wav" ContentType="audio/x-wav"/>
  <Override PartName="/ppt/media/type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19.jpeg" ContentType="image/jpeg"/>
  <Override PartName="/ppt/media/suction.wav" ContentType="audio/x-wav"/>
  <Override PartName="/ppt/media/image3.png" ContentType="image/png"/>
  <Override PartName="/ppt/media/image11.wmf" ContentType="image/x-wmf"/>
  <Override PartName="/ppt/media/image18.wmf" ContentType="image/x-wmf"/>
  <Override PartName="/ppt/media/image2.jpeg" ContentType="image/jpeg"/>
  <Override PartName="/ppt/media/push.wav" ContentType="audio/x-wav"/>
  <Override PartName="/ppt/media/image4.wmf" ContentType="image/x-wmf"/>
  <Override PartName="/ppt/media/click.wav" ContentType="audio/x-wav"/>
  <Override PartName="/ppt/media/image1.jpeg" ContentType="image/jpeg"/>
  <Override PartName="/ppt/media/image13.jpeg" ContentType="image/jpeg"/>
  <Override PartName="/ppt/media/image12.png" ContentType="image/png"/>
  <Override PartName="/ppt/media/drumroll.wav" ContentType="audio/x-wav"/>
  <Override PartName="/ppt/media/image14.wmf" ContentType="image/x-wmf"/>
  <Override PartName="/ppt/media/image15.jpeg" ContentType="image/jpeg"/>
  <Override PartName="/ppt/media/arrow.wav" ContentType="audio/x-wav"/>
  <Override PartName="/ppt/media/bomb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F4C-EA3E-4D68-99DA-3DD89510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9D0-0345-4701-BD6C-C468972F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BAE-E737-4B23-95F2-6C285D71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4DC-6E6E-41D8-A46A-116F5D45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ECD3-BF8B-43C7-8CE0-D38048B8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EB9C-356F-4A59-8385-E949B1B3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C3E3-F519-42FF-B354-E31DC96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356E-DF8D-4769-9821-6FDEBFCB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06CC-3335-4C81-A8A1-1389E4BE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D487-FEDA-4F2A-ABD4-EA29A566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DE9C-ECC6-440B-A69D-33B794DF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E81-8523-4DDE-8E15-8CD21A01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ED1-3D46-4D7B-A51C-FAEC4EC2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FEA8-1FF2-4D22-8F2B-22F48024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24E1-F39B-4E9F-A2F5-DD5B75D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925B-664E-4C40-95F5-7A1FF17D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2A37-3129-4E08-85C0-B5D6A2E2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5EC-56EB-472D-9B26-38172B05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E42-95B5-45F4-9B23-D610A931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640-30A5-4CD5-95B8-036A8AA8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245-E887-43B7-8305-CACEC880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AA1-52AA-4364-83C1-F991B542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5C7-850C-4966-AD19-961EC817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7DB-B605-45B2-B283-3EAC7A7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0E25-DD94-4563-A5C9-E23EACBEB41B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F498-A7F8-496E-B7B2-D54BD712A37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8f4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8f4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MSj03884630000%5B1%5D.wav" TargetMode="External"/><Relationship Id="rId3" Type="http://schemas.microsoft.com/office/2007/relationships/media" Target="file:///tmp/home/.config/libreoffice/4/user/gallery/MSj0388463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file:///tmp/home/.config/libreoffice/4/user/gallery/MSBD19014_0000%5B1%5D.wav" TargetMode="External"/><Relationship Id="rId3" Type="http://schemas.microsoft.com/office/2007/relationships/media" Target="file:///tmp/home/.config/libreoffice/4/user/gallery/MSBD19014_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file:///tmp/home/.config/libreoffice/4/user/gallery/MSSN00771A0000%5B1%5D.wav" TargetMode="External"/><Relationship Id="rId3" Type="http://schemas.microsoft.com/office/2007/relationships/media" Target="file:///tmp/home/.config/libreoffice/4/user/gallery/MSSN00771A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file:///tmp/home/.config/libreoffice/4/user/gallery/MSBD18826_0000%5B1%5D.wav" TargetMode="External"/><Relationship Id="rId3" Type="http://schemas.microsoft.com/office/2007/relationships/media" Target="file:///tmp/home/.config/libreoffice/4/user/gallery/MSBD18826_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Windows%20XP%20Pop-up%20Blocked.wav" TargetMode="External"/><Relationship Id="rId3" Type="http://schemas.microsoft.com/office/2007/relationships/media" Target="file:///tmp/home/.config/libreoffice/4/user/gallery/Windows%20XP%20Pop-up%20Blocke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j0074799.wav" TargetMode="External"/><Relationship Id="rId3" Type="http://schemas.microsoft.com/office/2007/relationships/media" Target="file:///tmp/home/.config/libreoffice/4/user/gallery/j0074799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MSSN00542A0000%5B1%5D.wav" TargetMode="External"/><Relationship Id="rId3" Type="http://schemas.microsoft.com/office/2007/relationships/media" Target="file:///tmp/home/.config/libreoffice/4/user/gallery/MSSN00542A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MSSN00831A0000%5B1%5D.wav" TargetMode="External"/><Relationship Id="rId3" Type="http://schemas.microsoft.com/office/2007/relationships/media" Target="file:///tmp/home/.config/libreoffice/4/user/gallery/MSSN00831A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tmp/home/.config/libreoffice/4/user/gallery/breeze.wav" TargetMode="External"/><Relationship Id="rId3" Type="http://schemas.microsoft.com/office/2007/relationships/media" Target="file:///tmp/home/.config/libreoffice/4/user/gallery/breeze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urtle’s Race with Bea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Amazing Words and Vocabula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conflict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truggle or fight, especially one that goes on for a long tim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4181760" cy="3549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  <p:sndAc>
      <p:stSnd>
        <p:snd r:embed="rId3" name="click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31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inhabit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live in a plac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81480" y="2571840"/>
            <a:ext cx="3400200" cy="3524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drumroll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resolv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make a decision ; to solve or fix a problem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90920" y="2693880"/>
            <a:ext cx="441936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2" name="cashreg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coax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gently talk someone into doing something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2686320" cy="403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5" name="bomb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362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ramp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lope or slant that connects two different levels.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3274920"/>
            <a:ext cx="6400800" cy="2676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wind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6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startl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surprise and shock very suddenly.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6259680" cy="3531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push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809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7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serap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hawl or blanket that people can wear over their shirts; worn in Latin America with bright colors and strip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200400" cy="311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43000" y="4419720"/>
            <a:ext cx="28195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5" name="whoosh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1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355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vacation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time away from school or your usual duti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suction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3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5491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Vocabulary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challeng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lodge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dam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buri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embarrass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halfway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8f48"/>
                </a:solidFill>
                <a:latin typeface="Trebuchet MS"/>
              </a:rPr>
              <a:t>challenged (challenge)</a:t>
            </a:r>
            <a:endParaRPr b="0" lang="en-US" sz="5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call or invite someone to a game or contest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3211560" cy="325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5" name="laser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17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lodg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den of an animal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010280" cy="357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35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dam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wall built to hold back the water of a creek, lake, or river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477120" cy="3411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camera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buried (bury)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hide or cover something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4791240" cy="314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81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78f48"/>
                </a:solidFill>
                <a:latin typeface="Trebuchet MS"/>
              </a:rPr>
              <a:t>embarrassed (embarrass)</a:t>
            </a:r>
            <a:endParaRPr b="0" lang="en-US" sz="4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feel that people are thinking of you badly because of something you said or did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1780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breeze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halfway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be in the middl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276720"/>
            <a:ext cx="1295280" cy="1828800"/>
          </a:xfrm>
          <a:prstGeom prst="ellipse">
            <a:avLst/>
          </a:pr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276720"/>
            <a:ext cx="1295280" cy="1828800"/>
          </a:xfrm>
          <a:prstGeom prst="ellipse">
            <a:avLst/>
          </a:pr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654280" cy="3247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5" name="arrow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786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mazing Wor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conflict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inhabit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resolv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coax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9104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ramp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startl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serap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vacation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" name="cashreg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16:20Z</dcterms:created>
  <dc:creator> </dc:creator>
  <dc:description/>
  <cp:keywords/>
  <dc:language>en-US</dc:language>
  <cp:lastModifiedBy> </cp:lastModifiedBy>
  <dcterms:modified xsi:type="dcterms:W3CDTF">2007-10-16T01:48:59Z</dcterms:modified>
  <cp:revision>2</cp:revision>
  <dc:subject/>
  <dc:title>Turtle’s Race with Beaver Amazing Words and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